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336A-EC26-4F26-A5AE-44F101439ED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of glucose powder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tarchdextrinadhesives.com/glucose-powder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B678-18A4-4053-BDFB-3E6EAE4F8EE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" spc="-1" strike="noStrike">
                <a:solidFill>
                  <a:srgbClr val="000000"/>
                </a:solidFill>
                <a:latin typeface="Calibri"/>
              </a:rPr>
              <a:t>http://www.science.smith.edu/departments/Biology/Bio231/glycolysis.html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AF81-C138-461D-9FE7-BE2D5AFA588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orylation: glucose --&gt; glucose-6-phosph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merization: G6P --&gt; fructose 6-phosph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orylation F6P --&gt; fructose 1,6-biphosph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angelfire.com/sc3/toxchick/biolchem/biolchem0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rpi.edu/dept/bcbp/molbiochem/MBWeb/mb1/part2/glycolysi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cnx.org/content/m44432/latest/?collection=col11448/1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882-8358-4108-893B-A4A4ACAE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872-9F57-44C8-8426-1CD4EF55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434-BDE5-4D0B-8936-77A938B0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8D0-6EA3-454F-9D3A-5B483670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C94-34AF-4C15-9D0E-09D3979E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0EB-BAB4-4C54-B057-E7807B74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A1E-DC50-4C8F-9243-44A0473A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148-6919-4F01-9B70-C8E41609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B15-EEDF-44B1-B419-4D777EE3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80D-94FF-47E7-827F-CEFAEAED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20D-187A-4F4E-B4AA-6156BE09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E8C-A6B7-4977-AE58-1016BA18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A7B6-FC63-4B37-85D7-A96E2F836409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erobic Respiration: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P-210-glycolysis"/>
          <p:cNvPicPr/>
          <p:nvPr/>
        </p:nvPicPr>
        <p:blipFill>
          <a:blip r:embed="rId1"/>
          <a:stretch/>
        </p:blipFill>
        <p:spPr>
          <a:xfrm>
            <a:off x="2819520" y="152280"/>
            <a:ext cx="3605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colysis Anim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 really like this animation, it clearly shows the intermediates &amp; the energy transf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http://www.science.smith.edu/departments/Biology/Bio231/glycolysis.htm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lysis (simplified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highered.mcgraw-hill.com/sites/0072507470/student_view0/chapter25/animation__how_glycolysis_work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Y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NAD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glucos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lecules of ATP are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molecules of ATP are pro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net yield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A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glucos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+ 2 NA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 ADP + 2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yruvate + 2 NADH + 2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self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is quiz:  http://www.zerobio.com/biofax12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almost all living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aerob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tage of aerobic cellular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s of Glyco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enzyme-catalyzed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-carbon glucose is split into two 3-carbon pyruvate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energy gain of 2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NA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reduced to NAD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GlycolXX"/>
          <p:cNvPicPr/>
          <p:nvPr/>
        </p:nvPicPr>
        <p:blipFill>
          <a:blip r:embed="rId1"/>
          <a:stretch/>
        </p:blipFill>
        <p:spPr>
          <a:xfrm>
            <a:off x="914400" y="1676520"/>
            <a:ext cx="72975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335772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ycolysis Overview</a:t>
            </a:r>
            <a:br>
              <a:rPr sz="4400"/>
            </a:br>
            <a:br>
              <a:rPr sz="900"/>
            </a:br>
            <a:br>
              <a:rPr sz="9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home.jam.rr.com/cjohnson1/glycolysis2.jpg"/>
          <p:cNvPicPr/>
          <p:nvPr/>
        </p:nvPicPr>
        <p:blipFill>
          <a:blip r:embed="rId1"/>
          <a:stretch/>
        </p:blipFill>
        <p:spPr>
          <a:xfrm>
            <a:off x="407196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ses of Glyco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y investment 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xns #1-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vage (rxns #4-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y pay-off 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xns #6-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Investment (#1-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undergoes a phosphorylation, an isomerization, and a second phosphor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TP are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4" descr="glycolysis1to3"/>
          <p:cNvPicPr/>
          <p:nvPr/>
        </p:nvPicPr>
        <p:blipFill>
          <a:blip r:embed="rId1"/>
          <a:stretch/>
        </p:blipFill>
        <p:spPr>
          <a:xfrm>
            <a:off x="4349880" y="1143000"/>
            <a:ext cx="44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#4-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s into two 3-carbon molecules:  G3P &amp; DH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HAP isomerizes into G3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aldolase"/>
          <p:cNvPicPr/>
          <p:nvPr/>
        </p:nvPicPr>
        <p:blipFill>
          <a:blip r:embed="rId1"/>
          <a:stretch/>
        </p:blipFill>
        <p:spPr>
          <a:xfrm>
            <a:off x="4114800" y="2725560"/>
            <a:ext cx="464832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pay-off (#6-1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Figure_07_02_02"/>
          <p:cNvPicPr/>
          <p:nvPr/>
        </p:nvPicPr>
        <p:blipFill>
          <a:blip r:embed="rId1"/>
          <a:stretch/>
        </p:blipFill>
        <p:spPr>
          <a:xfrm>
            <a:off x="457200" y="2317680"/>
            <a:ext cx="83818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23:28:04Z</dcterms:created>
  <dc:creator>jen</dc:creator>
  <dc:description/>
  <dc:language>en-US</dc:language>
  <cp:lastModifiedBy>rubina khan</cp:lastModifiedBy>
  <dcterms:modified xsi:type="dcterms:W3CDTF">2017-05-31T13:52:58Z</dcterms:modified>
  <cp:revision>151</cp:revision>
  <dc:subject/>
  <dc:title>Slide 1</dc:title>
</cp:coreProperties>
</file>